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FEC-FDF3-40B7-8BBD-8B0D0E86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592-09B1-478B-A3FE-1275D994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206-5C87-45FE-BF75-F4BA8D13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4EFD-F5DB-4D75-AF9F-AA42B44E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1C2-93CF-4816-90F1-87378957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B72-39D1-4C93-838C-3A99955F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907-909E-4222-B13D-67B276F7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1B8-C8EF-4714-94C0-A68C4DD0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705-39DD-4F62-BEF2-D3C2EA33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14D-AD6E-495F-BCF3-3EAAA09E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045-8048-4B5C-B049-B0891D9E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B1C-A399-4050-A679-4E9BA960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2710-E2D3-48AB-BD47-273727645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581280" y="1773720"/>
            <a:ext cx="5088600" cy="4231080"/>
            <a:chOff x="3581280" y="1773720"/>
            <a:chExt cx="5088600" cy="4231080"/>
          </a:xfrm>
        </p:grpSpPr>
        <p:sp>
          <p:nvSpPr>
            <p:cNvPr id="6" name=""/>
            <p:cNvSpPr/>
            <p:nvPr/>
          </p:nvSpPr>
          <p:spPr>
            <a:xfrm>
              <a:off x="53136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9730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730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3941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3941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3893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3893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456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6456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5378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5378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1434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4224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9781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7402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251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5812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313600" y="2308680"/>
              <a:ext cx="2786400" cy="203112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9730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973040" y="530568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3941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394160" y="4662000"/>
              <a:ext cx="3251160" cy="134280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3893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389360" y="5206320"/>
              <a:ext cx="1280160" cy="79848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6456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645680" y="2906640"/>
              <a:ext cx="1023840" cy="24447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5378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37800" y="177372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43480" y="276264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422400" y="321948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978160" y="372996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740200" y="427248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25120" y="540540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581280" y="4461120"/>
              <a:ext cx="699120" cy="2224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486080" cy="46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24:34Z</dcterms:created>
  <dc:creator>My PC</dc:creator>
  <dc:description/>
  <dc:language>en-US</dc:language>
  <cp:lastModifiedBy>My PC</cp:lastModifiedBy>
  <dcterms:modified xsi:type="dcterms:W3CDTF">2008-02-26T15:49:35Z</dcterms:modified>
  <cp:revision>3</cp:revision>
  <dc:subject/>
  <dc:title>Slide 1</dc:title>
</cp:coreProperties>
</file>